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6D1-198A-4CE5-A6F7-F3DDF6A7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478-14A8-4D6F-BCB2-A56EA852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17D-FA1F-4697-AE22-D21A5A1B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47A-F5D8-4272-B9D4-05DC257C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092-2731-415D-9BCB-0691B3B4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79B-3497-408E-80D6-C7EABB1E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CEE-2953-4200-8780-DBB73C5C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F5D-85DF-4865-ABA4-F731178B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BC3-BBDD-4CD9-8CA3-8137F3A9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AD2-91C1-4D93-A750-B04A2167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AAB-5364-400F-9E57-7635EE37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416-44DF-44AF-AD5C-1FEE7058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8933-2117-4789-B8E2-449779042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udy k ná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paslavie1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8760" cy="568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20574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096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Kubánské ná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40560" y="2438280"/>
            <a:ext cx="1141200" cy="3988080"/>
          </a:xfrm>
          <a:custGeom>
            <a:avLst/>
            <a:gdLst/>
            <a:ahLst/>
            <a:rect l="l" t="t" r="r" b="b"/>
            <a:pathLst>
              <a:path w="719" h="2512">
                <a:moveTo>
                  <a:pt x="560" y="0"/>
                </a:moveTo>
                <a:cubicBezTo>
                  <a:pt x="578" y="166"/>
                  <a:pt x="719" y="796"/>
                  <a:pt x="671" y="996"/>
                </a:cubicBezTo>
                <a:cubicBezTo>
                  <a:pt x="623" y="1196"/>
                  <a:pt x="374" y="1148"/>
                  <a:pt x="272" y="1200"/>
                </a:cubicBezTo>
                <a:cubicBezTo>
                  <a:pt x="170" y="1252"/>
                  <a:pt x="99" y="1207"/>
                  <a:pt x="59" y="1311"/>
                </a:cubicBezTo>
                <a:cubicBezTo>
                  <a:pt x="19" y="1415"/>
                  <a:pt x="36" y="1643"/>
                  <a:pt x="32" y="1824"/>
                </a:cubicBezTo>
                <a:cubicBezTo>
                  <a:pt x="28" y="2005"/>
                  <a:pt x="0" y="2288"/>
                  <a:pt x="32" y="2400"/>
                </a:cubicBezTo>
                <a:cubicBezTo>
                  <a:pt x="64" y="2512"/>
                  <a:pt x="193" y="2481"/>
                  <a:pt x="224" y="2496"/>
                </a:cubicBezTo>
                <a:cubicBezTo>
                  <a:pt x="255" y="2511"/>
                  <a:pt x="222" y="2491"/>
                  <a:pt x="221" y="2490"/>
                </a:cubicBezTo>
                <a:cubicBezTo>
                  <a:pt x="220" y="2489"/>
                  <a:pt x="218" y="2490"/>
                  <a:pt x="218" y="2490"/>
                </a:cubicBezTo>
                <a:cubicBezTo>
                  <a:pt x="218" y="2490"/>
                  <a:pt x="218" y="2490"/>
                  <a:pt x="218" y="249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22860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ď už vít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23:52:11Z</dcterms:created>
  <dc:creator>Tomáš DOUBĚTA</dc:creator>
  <dc:description/>
  <dc:language>en-US</dc:language>
  <cp:lastModifiedBy>Tomáš DOUBĚTA</cp:lastModifiedBy>
  <dcterms:modified xsi:type="dcterms:W3CDTF">2003-01-25T22:58:42Z</dcterms:modified>
  <cp:revision>4</cp:revision>
  <dc:subject/>
  <dc:title>Kudy k nám?</dc:title>
</cp:coreProperties>
</file>