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21A-4054-41AC-99E8-5A3EB605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0ED5-B05F-43CC-8025-F7103BB6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1F1-87B6-41F3-8A36-CEBA51C7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ECE-0921-47BC-BEFF-D63D5155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1B5-AD55-44C1-8BAB-49D3B564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4940-AA2D-409E-A926-3F16920D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05F-14E3-4E39-94A6-900E124C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6D92-1DD4-4D30-B377-FDFFB7A4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8605-64FF-4B09-84A6-1BF8684D9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9370-6DA7-47EA-BEE0-2CBC46F5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433-7F74-4F5D-A2B2-7B1274E8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A09D-E4F5-4112-88F0-5C617CA0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6B05-7716-4D07-832C-17C37F54D6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udy k ná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apaslavie1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8760" cy="568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5880" y="20574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22096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Kubánské ná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40560" y="2438280"/>
            <a:ext cx="1141200" cy="3988080"/>
          </a:xfrm>
          <a:custGeom>
            <a:avLst/>
            <a:gdLst/>
            <a:ahLst/>
            <a:rect l="l" t="t" r="r" b="b"/>
            <a:pathLst>
              <a:path w="719" h="2512">
                <a:moveTo>
                  <a:pt x="560" y="0"/>
                </a:moveTo>
                <a:cubicBezTo>
                  <a:pt x="578" y="166"/>
                  <a:pt x="719" y="796"/>
                  <a:pt x="671" y="996"/>
                </a:cubicBezTo>
                <a:cubicBezTo>
                  <a:pt x="623" y="1196"/>
                  <a:pt x="374" y="1148"/>
                  <a:pt x="272" y="1200"/>
                </a:cubicBezTo>
                <a:cubicBezTo>
                  <a:pt x="170" y="1252"/>
                  <a:pt x="99" y="1207"/>
                  <a:pt x="59" y="1311"/>
                </a:cubicBezTo>
                <a:cubicBezTo>
                  <a:pt x="19" y="1415"/>
                  <a:pt x="36" y="1643"/>
                  <a:pt x="32" y="1824"/>
                </a:cubicBezTo>
                <a:cubicBezTo>
                  <a:pt x="28" y="2005"/>
                  <a:pt x="0" y="2288"/>
                  <a:pt x="32" y="2400"/>
                </a:cubicBezTo>
                <a:cubicBezTo>
                  <a:pt x="64" y="2512"/>
                  <a:pt x="193" y="2481"/>
                  <a:pt x="224" y="2496"/>
                </a:cubicBezTo>
                <a:cubicBezTo>
                  <a:pt x="255" y="2511"/>
                  <a:pt x="222" y="2491"/>
                  <a:pt x="221" y="2490"/>
                </a:cubicBezTo>
                <a:cubicBezTo>
                  <a:pt x="220" y="2489"/>
                  <a:pt x="218" y="2490"/>
                  <a:pt x="218" y="2490"/>
                </a:cubicBezTo>
                <a:cubicBezTo>
                  <a:pt x="218" y="2490"/>
                  <a:pt x="218" y="2490"/>
                  <a:pt x="218" y="249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95680" y="22860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ď už vít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23:52:11Z</dcterms:created>
  <dc:creator>Tomáš DOUBĚTA</dc:creator>
  <dc:description/>
  <dc:language>en-US</dc:language>
  <cp:lastModifiedBy>Tomáš DOUBĚTA</cp:lastModifiedBy>
  <dcterms:modified xsi:type="dcterms:W3CDTF">2003-01-25T22:58:42Z</dcterms:modified>
  <cp:revision>4</cp:revision>
  <dc:subject/>
  <dc:title>Kudy k nám?</dc:title>
</cp:coreProperties>
</file>